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7D9-F6C1-4E97-BFE3-623CCBA7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6ED-EB5F-40FA-81DB-B356E7A2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8C08-2C45-4032-B57B-44429ADB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0D82-B6D8-433C-8327-70BBC2CF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C6A6-57C0-4575-BBC6-6026188C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27E5-36C1-42DC-86AC-5F398676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6193-FB95-49DC-9847-160619A1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002B-F3E7-4290-9E5F-D45984BA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3BD-EB7D-468E-9D4A-CB59EC3A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4C6C-F2F5-402E-AAF3-B1009F0A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30B-B947-4721-B1AB-A1509443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1E2-7430-49B9-9A8E-0F323DD0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F889-EFBA-4FE6-AC4B-8B331B70D3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Introduction to regress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mbria"/>
              </a:rPr>
              <a:t>3D. Interpretation, interpolation, and extrapolation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Interpreting slope and intercep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slope (m) of a regression line indicates the rate at which data is increasing or decreasing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 y-intercept indicates the approximate value of the data when x=0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, Ex 3D, Q.1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Interpolation and extrapolat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Remember that a regression line is an estimate of the true relationship between two variable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But, the regression line is used to make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predictions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about the data set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two types of prediction are called interpolation and extrapolation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Interpolat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nterpolation predicts values between two values already in the data set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f the data is very linear (r near +1 or -1) then we know the interpolated point is quite accurat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mbria"/>
              </a:rPr>
              <a:t>Extrapolation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trapolation predicts values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smaller than the smallest value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 already in the data set or </a:t>
            </a:r>
            <a:r>
              <a:rPr b="1" lang="en-AU" sz="3200" spc="-1" strike="noStrike">
                <a:solidFill>
                  <a:srgbClr val="000000"/>
                </a:solidFill>
                <a:latin typeface="Cambria"/>
              </a:rPr>
              <a:t>larger than the largest value</a:t>
            </a: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wo problem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It may not be reasonable to extrapolate too far away from the given data value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The data may be linear in a narrow band of the given data set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Generally, interpolations are more reliable than extrapolations. But remember, our confidence depends on the correlation coefficient (r)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Example: Ex 3D: 4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mbria"/>
              </a:rPr>
              <a:t>You do: 2, 5, 7, 8, 9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1:30:14Z</dcterms:created>
  <dc:creator>08843474</dc:creator>
  <dc:description/>
  <dc:language>en-US</dc:language>
  <cp:lastModifiedBy>08843474</cp:lastModifiedBy>
  <dcterms:modified xsi:type="dcterms:W3CDTF">2011-03-10T00:40:05Z</dcterms:modified>
  <cp:revision>4</cp:revision>
  <dc:subject/>
  <dc:title>Introduction to regression</dc:title>
</cp:coreProperties>
</file>